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06A-D221-4273-B898-7CBF1399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03B-144C-4116-9434-08991328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4B0-768A-4642-9B64-477A7628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E97-51A6-4760-8C31-63EA4A8B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D32F-2385-466F-98F3-4E859DBE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7350-6BA7-4569-AAAE-0433EE11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9C4F-FD48-4B3B-B627-F4D54E72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02BE-2B4E-472D-8BD7-57717FAA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16E1-0C95-45A4-8B8E-A4B67B58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FD25-55BE-479C-BEFC-40256360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67B1-118E-49A9-A8BA-12566B4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E63-1C70-47EF-8F89-72F8BEDC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C584-2FDB-4B54-B15C-05A79AF5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FA74-05AB-4EAA-9A9C-38C5F197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026A-244B-4324-800D-6A0E1789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21CD-2757-43D2-A51D-0FD10077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3200-A303-4388-9708-837995A3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990-7F18-44E4-BFBC-02EF8DCD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CC8-082F-49CA-8C04-52148F1D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7FE-FFF3-4150-B363-CC8DF638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7A9-53FA-4F1F-9FD5-73C9AF55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A32-780E-481C-927E-71793B67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E0D-8867-4BB8-8450-BDF68AC0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299-5EFD-42B4-8800-F5C272D4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9F4D-AC38-41C9-8293-E30ED63B9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9D83-CEFE-4E23-9752-064CAFB06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5040" y="17524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i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2240" y="1752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t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10080" y="1447920"/>
            <a:ext cx="13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ous W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10280" y="1523880"/>
            <a:ext cx="115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el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89280" y="3168720"/>
            <a:ext cx="435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tried to find the fountain of youth in Florid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05120" y="316872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nce De le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918440" y="316872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first Presid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83160" y="316872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rge Washing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24920" y="3168720"/>
            <a:ext cx="66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first Black Presid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05480" y="3168720"/>
            <a:ext cx="29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rack Oba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939960" y="3200400"/>
            <a:ext cx="735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assassinated at Ford’s the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08360" y="316872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raham Lincol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411560" y="3200400"/>
            <a:ext cx="72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two presidents were impeach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22040" y="3168720"/>
            <a:ext cx="632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rew Johnson and Bill Clin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Explor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404720" y="312408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1492, Who sailed the ocean blu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89280" y="31687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892160" y="316872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is Vietna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2160" y="3168720"/>
            <a:ext cx="29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theast As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889280" y="316872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leader of the North Vietname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01880" y="316872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 Chi M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89280" y="3168720"/>
            <a:ext cx="611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president during the end of the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5120" y="316872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chard Nix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228320" y="3200400"/>
            <a:ext cx="72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of the worst Vietnamese att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83880" y="316872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t Offens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912320" y="3168720"/>
            <a:ext cx="43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istopher Columb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7760" y="3200400"/>
            <a:ext cx="739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d America win the Vietnamese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3600" y="316872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08000" y="3168720"/>
            <a:ext cx="56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America named aft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79200" y="316872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erigo Vespucc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889280" y="3168720"/>
            <a:ext cx="489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killed on their expedition before seeing it throug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1520" y="316872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gelle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889280" y="3168720"/>
            <a:ext cx="48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men went on a expedition with the help of Sacajawe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06920" y="3168720"/>
            <a:ext cx="32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wis and Cla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hawkinsv0910</cp:lastModifiedBy>
  <dcterms:modified xsi:type="dcterms:W3CDTF">2009-12-16T22:49:37Z</dcterms:modified>
  <cp:revision>18</cp:revision>
  <dc:subject/>
  <dc:title>Jeopardy</dc:title>
</cp:coreProperties>
</file>